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5BF-FD21-4A11-9483-8146B707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602D-C40B-4DAA-B0AD-6A5B994B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28F-220B-4816-A824-77E8AA8A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3F2-3EA9-4B51-BE01-146FCE59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5EB-0DB7-40E3-A6E3-26F660AC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F3C5-218D-4C16-8E63-0CAA3F12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944F-F0AE-4BB7-B7E3-D4FD8786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0FF-C208-47BF-B9C2-125166C7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557-F888-44AE-8902-9F0B937A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B8E-F79B-4E73-AAE0-56E15A03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6C4-9151-4E62-A852-0D36140B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179-C719-4EFB-B5E3-91D4EC89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7BAF-58BC-412F-B081-DFE9CC447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3733920" y="380880"/>
                <a:ext cx="3962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990720" y="1371600"/>
            <a:ext cx="6629400" cy="609480"/>
            <a:chOff x="990720" y="1371600"/>
            <a:chExt cx="6629400" cy="609480"/>
          </a:xfrm>
        </p:grpSpPr>
        <p:sp>
          <p:nvSpPr>
            <p:cNvPr id="44" name=""/>
            <p:cNvSpPr/>
            <p:nvPr/>
          </p:nvSpPr>
          <p:spPr>
            <a:xfrm>
              <a:off x="990720" y="13716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90720" y="2209680"/>
            <a:ext cx="6629400" cy="609480"/>
            <a:chOff x="990720" y="2209680"/>
            <a:chExt cx="6629400" cy="609480"/>
          </a:xfrm>
        </p:grpSpPr>
        <p:sp>
          <p:nvSpPr>
            <p:cNvPr id="48" name=""/>
            <p:cNvSpPr/>
            <p:nvPr/>
          </p:nvSpPr>
          <p:spPr>
            <a:xfrm>
              <a:off x="990720" y="220968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182600" y="2270160"/>
                  <a:ext cx="406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209680" y="22860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90720" y="3886200"/>
            <a:ext cx="6629400" cy="650880"/>
            <a:chOff x="990720" y="3886200"/>
            <a:chExt cx="6629400" cy="650880"/>
          </a:xfrm>
        </p:grpSpPr>
        <p:sp>
          <p:nvSpPr>
            <p:cNvPr id="52" name=""/>
            <p:cNvSpPr/>
            <p:nvPr/>
          </p:nvSpPr>
          <p:spPr>
            <a:xfrm>
              <a:off x="990720" y="38862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219320" y="388620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286000" y="4038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957480" y="3886200"/>
                  <a:ext cx="13003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990720" y="4800600"/>
            <a:ext cx="6629400" cy="611280"/>
            <a:chOff x="990720" y="4800600"/>
            <a:chExt cx="6629400" cy="611280"/>
          </a:xfrm>
        </p:grpSpPr>
        <p:grpSp>
          <p:nvGrpSpPr>
            <p:cNvPr id="57" name=""/>
            <p:cNvGrpSpPr/>
            <p:nvPr/>
          </p:nvGrpSpPr>
          <p:grpSpPr>
            <a:xfrm>
              <a:off x="990720" y="4800600"/>
              <a:ext cx="6629400" cy="609480"/>
              <a:chOff x="990720" y="4800600"/>
              <a:chExt cx="6629400" cy="609480"/>
            </a:xfrm>
          </p:grpSpPr>
          <p:sp>
            <p:nvSpPr>
              <p:cNvPr id="58" name=""/>
              <p:cNvSpPr/>
              <p:nvPr/>
            </p:nvSpPr>
            <p:spPr>
              <a:xfrm>
                <a:off x="990720" y="4800600"/>
                <a:ext cx="66294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" name=""/>
                  <p:cNvSpPr txBox="1"/>
                  <p:nvPr/>
                </p:nvSpPr>
                <p:spPr>
                  <a:xfrm>
                    <a:off x="1219320" y="4860720"/>
                    <a:ext cx="487080" cy="48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" name=""/>
              <p:cNvSpPr/>
              <p:nvPr/>
            </p:nvSpPr>
            <p:spPr>
              <a:xfrm>
                <a:off x="2286000" y="4800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受理状態の有限集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562720" y="4800600"/>
                  <a:ext cx="12999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990720" y="3048120"/>
            <a:ext cx="6629400" cy="685800"/>
            <a:chOff x="990720" y="3048120"/>
            <a:chExt cx="6629400" cy="685800"/>
          </a:xfrm>
        </p:grpSpPr>
        <p:sp>
          <p:nvSpPr>
            <p:cNvPr id="63" name=""/>
            <p:cNvSpPr/>
            <p:nvPr/>
          </p:nvSpPr>
          <p:spPr>
            <a:xfrm>
              <a:off x="990720" y="304812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1163520" y="3164040"/>
                  <a:ext cx="4460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286000" y="32004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809880" y="3124440"/>
                  <a:ext cx="2554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1981080" y="5791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は形式的定義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4864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0388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62120" y="4876920"/>
                <a:ext cx="769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62120" y="5562720"/>
                <a:ext cx="7661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89200" y="380880"/>
                <a:ext cx="4251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990720" y="1143000"/>
            <a:ext cx="6172200" cy="609480"/>
            <a:chOff x="990720" y="1143000"/>
            <a:chExt cx="6172200" cy="609480"/>
          </a:xfrm>
        </p:grpSpPr>
        <p:sp>
          <p:nvSpPr>
            <p:cNvPr id="222" name=""/>
            <p:cNvSpPr/>
            <p:nvPr/>
          </p:nvSpPr>
          <p:spPr>
            <a:xfrm>
              <a:off x="990720" y="114300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1219320" y="1143000"/>
                  <a:ext cx="2071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990720" y="1905120"/>
            <a:ext cx="6172200" cy="608040"/>
            <a:chOff x="990720" y="1905120"/>
            <a:chExt cx="6172200" cy="608040"/>
          </a:xfrm>
        </p:grpSpPr>
        <p:sp>
          <p:nvSpPr>
            <p:cNvPr id="225" name=""/>
            <p:cNvSpPr/>
            <p:nvPr/>
          </p:nvSpPr>
          <p:spPr>
            <a:xfrm>
              <a:off x="990720" y="1905120"/>
              <a:ext cx="61722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1219320" y="190512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990720" y="2666880"/>
            <a:ext cx="6172200" cy="2387880"/>
            <a:chOff x="990720" y="2666880"/>
            <a:chExt cx="6172200" cy="2387880"/>
          </a:xfrm>
        </p:grpSpPr>
        <p:grpSp>
          <p:nvGrpSpPr>
            <p:cNvPr id="228" name=""/>
            <p:cNvGrpSpPr/>
            <p:nvPr/>
          </p:nvGrpSpPr>
          <p:grpSpPr>
            <a:xfrm>
              <a:off x="990720" y="2666880"/>
              <a:ext cx="6172200" cy="2286000"/>
              <a:chOff x="990720" y="2666880"/>
              <a:chExt cx="6172200" cy="2286000"/>
            </a:xfrm>
          </p:grpSpPr>
          <p:sp>
            <p:nvSpPr>
              <p:cNvPr id="229" name=""/>
              <p:cNvSpPr/>
              <p:nvPr/>
            </p:nvSpPr>
            <p:spPr>
              <a:xfrm>
                <a:off x="990720" y="2666880"/>
                <a:ext cx="6172200" cy="228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1219320" y="2666880"/>
                    <a:ext cx="255420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Σ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2514600" y="3200400"/>
                  <a:ext cx="3962520" cy="185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990720" y="5105520"/>
            <a:ext cx="6172200" cy="650880"/>
            <a:chOff x="990720" y="5105520"/>
            <a:chExt cx="6172200" cy="650880"/>
          </a:xfrm>
        </p:grpSpPr>
        <p:sp>
          <p:nvSpPr>
            <p:cNvPr id="233" name=""/>
            <p:cNvSpPr/>
            <p:nvPr/>
          </p:nvSpPr>
          <p:spPr>
            <a:xfrm>
              <a:off x="990720" y="510552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129528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990720" y="5867280"/>
            <a:ext cx="6172200" cy="635040"/>
            <a:chOff x="990720" y="5867280"/>
            <a:chExt cx="6172200" cy="635040"/>
          </a:xfrm>
        </p:grpSpPr>
        <p:sp>
          <p:nvSpPr>
            <p:cNvPr id="236" name=""/>
            <p:cNvSpPr/>
            <p:nvPr/>
          </p:nvSpPr>
          <p:spPr>
            <a:xfrm>
              <a:off x="990720" y="5867280"/>
              <a:ext cx="61722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3716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523880" y="45720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053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1911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060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468600" y="5715000"/>
                <a:ext cx="1906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100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638680" y="4114800"/>
                <a:ext cx="301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66680" y="5715000"/>
                <a:ext cx="7097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614600" y="45720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5053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41911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242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84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8769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38320" y="5715000"/>
                <a:ext cx="6953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916360" y="5445000"/>
                <a:ext cx="1987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771640" y="1268280"/>
                <a:ext cx="2071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2286000" y="3048120"/>
            <a:ext cx="4648320" cy="1828800"/>
            <a:chOff x="2286000" y="3048120"/>
            <a:chExt cx="4648320" cy="1828800"/>
          </a:xfrm>
        </p:grpSpPr>
        <p:sp>
          <p:nvSpPr>
            <p:cNvPr id="370" name=""/>
            <p:cNvSpPr/>
            <p:nvPr/>
          </p:nvSpPr>
          <p:spPr>
            <a:xfrm>
              <a:off x="2286000" y="3048120"/>
              <a:ext cx="4648320" cy="1828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361600" y="4191120"/>
              <a:ext cx="146520" cy="15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438280" y="3505320"/>
            <a:ext cx="1905120" cy="914400"/>
            <a:chOff x="2438280" y="3505320"/>
            <a:chExt cx="1905120" cy="914400"/>
          </a:xfrm>
        </p:grpSpPr>
        <p:sp>
          <p:nvSpPr>
            <p:cNvPr id="373" name=""/>
            <p:cNvSpPr/>
            <p:nvPr/>
          </p:nvSpPr>
          <p:spPr>
            <a:xfrm>
              <a:off x="2438280" y="3505320"/>
              <a:ext cx="19051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450520" y="4112640"/>
              <a:ext cx="188640" cy="10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09680" y="2971800"/>
            <a:ext cx="4800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705720" y="2590920"/>
            <a:ext cx="685800" cy="1066680"/>
            <a:chOff x="6705720" y="2590920"/>
            <a:chExt cx="685800" cy="1066680"/>
          </a:xfrm>
        </p:grpSpPr>
        <p:sp>
          <p:nvSpPr>
            <p:cNvPr id="377" name=""/>
            <p:cNvSpPr/>
            <p:nvPr/>
          </p:nvSpPr>
          <p:spPr>
            <a:xfrm>
              <a:off x="670572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289280" y="3279960"/>
              <a:ext cx="7308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730600" y="457200"/>
                <a:ext cx="31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590920"/>
            <a:ext cx="685800" cy="1066680"/>
            <a:chOff x="1828800" y="2590920"/>
            <a:chExt cx="685800" cy="1066680"/>
          </a:xfrm>
        </p:grpSpPr>
        <p:sp>
          <p:nvSpPr>
            <p:cNvPr id="383" name=""/>
            <p:cNvSpPr/>
            <p:nvPr/>
          </p:nvSpPr>
          <p:spPr>
            <a:xfrm>
              <a:off x="182880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392200" y="332964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219320" y="35812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9112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5053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676520" y="236232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352680" y="397656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705640" y="42768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477120" y="251460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257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71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891480" y="361008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19720" y="365760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94040" y="365760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90800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226836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635280" y="1268280"/>
                <a:ext cx="1381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556000" y="1125360"/>
            <a:ext cx="3382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132000" y="5445000"/>
                <a:ext cx="1946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140328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34800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69236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564000" y="544500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197964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80000" y="5445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2268360" y="522936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99564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556000" y="522936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523880" y="38088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 flipV="1">
            <a:off x="104292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 flipV="1">
            <a:off x="2411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 flipV="1">
            <a:off x="3059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68360" y="5950080"/>
                <a:ext cx="791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は受理状態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 flipV="1">
            <a:off x="3708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 flipV="1">
            <a:off x="1042920" y="1814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619280" y="26370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 flipV="1">
            <a:off x="234000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43200" y="4724280"/>
                <a:ext cx="3048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39640" y="6021360"/>
                <a:ext cx="777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は受理状態でない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298764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457200" y="4800600"/>
                <a:ext cx="820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は末尾が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rPr>
                            <m:lit/>
                            <m:nor/>
                          </m:rPr>
                          <m:t xml:space="preserve">であるような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8360" y="544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4360" y="54936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38280" y="208296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62576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09680" y="154944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9092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392200" y="190728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2158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52480" y="2006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9112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082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249320" y="192024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2450520" y="2690640"/>
            <a:ext cx="188640" cy="10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2361600" y="276876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1676520" y="9399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3352680" y="25542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705640" y="285444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477120" y="1092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529272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98764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891480" y="2187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2235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994040" y="2235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32000" y="321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同様に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769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02240" y="3200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17840" y="4724280"/>
                <a:ext cx="34988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7:42:56Z</dcterms:modified>
  <cp:revision>21</cp:revision>
  <dc:subject/>
  <dc:title>PowerPoint プレゼンテーション</dc:title>
</cp:coreProperties>
</file>